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B5C-9DDA-4C7A-A5BF-E906E3AD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F87-1A25-4DCB-9822-A5B634BB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189-6C18-476B-8CAE-97748156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B20-D865-4B79-88D2-F9CDCD6F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E8B-0F4B-430D-B5B7-51508BA9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548-06D8-49E2-B607-9DA9058B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3AA-C9AC-4B7B-9F44-3D357E2A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7EF-EE76-46DA-A6A0-37F8D4E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683-34F2-4D97-A629-5CCD7C7B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26E-C5BF-40AF-858C-F8AA039E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869-EC93-467E-9003-A0B8C5B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621-5B3F-4629-A933-DC958461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88D3-D697-4D90-ABEE-F27A5B3A3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3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 our thanks and p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o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our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whom and in wh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y the Spirit who dwells i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worship you in joyful s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and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10:19Z</dcterms:created>
  <dc:creator>Anon Anon</dc:creator>
  <dc:description/>
  <dc:language>en-US</dc:language>
  <cp:lastModifiedBy>Anon Anon</cp:lastModifiedBy>
  <dcterms:modified xsi:type="dcterms:W3CDTF">2005-08-09T05:23:49Z</dcterms:modified>
  <cp:revision>11</cp:revision>
  <dc:subject/>
  <dc:title>PowerPoint Presentation</dc:title>
</cp:coreProperties>
</file>